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9A9-1488-4741-B889-FCBE079E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15D-15E6-472E-B41E-1FB24377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F84-7E37-4D03-ABEA-4C748C40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12E-77F8-40C5-A6DB-0C802ED7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F3C-D3EE-4FEC-A36A-E71909B0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865-0391-4D16-8F9A-5B04EA1D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0A2-39EF-4F80-B377-0B9A20DF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B5E-0B2A-48BB-9403-A091B620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6F0-5D46-4731-A24D-5FA01397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590-6412-4308-8203-C47E2A0E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972-BDC1-4F3A-B042-9744A267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DC8-CD85-4C5B-80C2-C2E686A5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69FC-0063-466C-8237-264BF1D07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s always tougher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Wayne and Coll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ssia was very strict but they gained their    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government told everyone what to do but now people can decide for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eedom can’t always help them because they may become un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22604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ussia, there is a lot of pol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ion can have a bad effect not because it is bad already, but because it affects tourists and the ec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ion in Russia can affect tourists because tourists won’t want to come visit an area with unhealthy pol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ion can affect the economy because if tourists don’t want to come there is a big decrease in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10:30Z</dcterms:created>
  <dc:creator> </dc:creator>
  <dc:description/>
  <dc:language>en-US</dc:language>
  <cp:lastModifiedBy> </cp:lastModifiedBy>
  <dcterms:modified xsi:type="dcterms:W3CDTF">2010-12-14T17:32:57Z</dcterms:modified>
  <cp:revision>2</cp:revision>
  <dc:subject/>
  <dc:title>Its always tougher in Russia</dc:title>
</cp:coreProperties>
</file>